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E6A-ADD8-4895-AA7E-A8D08717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3AA-6A01-4E4F-A8F5-FB83D25A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E59-1796-485D-AF2D-1F0AE38F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BA5A-8BF5-49A4-A0D6-5AEBD74F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16BF-E4BB-49CB-8071-C8593B6F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403-FAAB-42F5-8AA8-D7053EF7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B654-2568-402E-8339-AC23CE10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C34A-9F04-48C5-BEA8-9958E3DA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11D5-EB7F-4981-ACA9-53E6B02A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220B-B3CC-47AF-8C81-1F153EF6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FA8-EB9B-4C82-BF6F-37AE9BC3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FBE-F5EB-4646-B51D-3ED31A29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F0D5-ABB5-4444-9E1D-8D6D530C6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reate your own signs or symbols or graph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any graphics or symbols you w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one at the far right has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ddrive"/>
          <p:cNvSpPr/>
          <p:nvPr/>
        </p:nvSpPr>
        <p:spPr>
          <a:xfrm>
            <a:off x="838080" y="4419720"/>
            <a:ext cx="1809720" cy="904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914400" y="609480"/>
            <a:ext cx="1143000" cy="766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aptop"/>
          <p:cNvSpPr/>
          <p:nvPr/>
        </p:nvSpPr>
        <p:spPr>
          <a:xfrm>
            <a:off x="609480" y="3276720"/>
            <a:ext cx="1219320" cy="9046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onitor"/>
          <p:cNvSpPr/>
          <p:nvPr/>
        </p:nvSpPr>
        <p:spPr>
          <a:xfrm>
            <a:off x="3276720" y="4419720"/>
            <a:ext cx="1218960" cy="895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usic"/>
          <p:cNvSpPr/>
          <p:nvPr/>
        </p:nvSpPr>
        <p:spPr>
          <a:xfrm>
            <a:off x="6781680" y="5257800"/>
            <a:ext cx="1219320" cy="895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ubHalfFrame"/>
          <p:cNvSpPr/>
          <p:nvPr/>
        </p:nvSpPr>
        <p:spPr>
          <a:xfrm>
            <a:off x="0" y="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ubHalfFrame"/>
          <p:cNvSpPr/>
          <p:nvPr/>
        </p:nvSpPr>
        <p:spPr>
          <a:xfrm rot="16200000">
            <a:off x="0" y="502920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ubHalfFrame"/>
          <p:cNvSpPr/>
          <p:nvPr/>
        </p:nvSpPr>
        <p:spPr>
          <a:xfrm rot="5400000">
            <a:off x="7315200" y="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ubHalfFrame"/>
          <p:cNvSpPr/>
          <p:nvPr/>
        </p:nvSpPr>
        <p:spPr>
          <a:xfrm rot="10800000">
            <a:off x="7315200" y="502920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ubL"/>
          <p:cNvSpPr/>
          <p:nvPr/>
        </p:nvSpPr>
        <p:spPr>
          <a:xfrm>
            <a:off x="1676520" y="548640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41904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ubOvalCallout"/>
          <p:cNvSpPr/>
          <p:nvPr/>
        </p:nvSpPr>
        <p:spPr>
          <a:xfrm>
            <a:off x="0" y="2590920"/>
            <a:ext cx="838080" cy="838080"/>
          </a:xfrm>
          <a:custGeom>
            <a:avLst/>
            <a:gdLst>
              <a:gd name="textAreaLeft" fmla="*/ 122760 w 838080"/>
              <a:gd name="textAreaRight" fmla="*/ 715320 w 838080"/>
              <a:gd name="textAreaTop" fmla="*/ 91800 h 838080"/>
              <a:gd name="textAreaBottom" fmla="*/ 536760 h 83808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canner1"/>
          <p:cNvSpPr/>
          <p:nvPr/>
        </p:nvSpPr>
        <p:spPr>
          <a:xfrm>
            <a:off x="1905120" y="3124080"/>
            <a:ext cx="1809720" cy="905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UTurnArrow"/>
          <p:cNvSpPr/>
          <p:nvPr/>
        </p:nvSpPr>
        <p:spPr>
          <a:xfrm>
            <a:off x="6324480" y="457200"/>
            <a:ext cx="1771920" cy="1771560"/>
          </a:xfrm>
          <a:custGeom>
            <a:avLst/>
            <a:gdLst>
              <a:gd name="textAreaLeft" fmla="*/ 0 w 1771920"/>
              <a:gd name="textAreaRight" fmla="*/ 457200 w 177192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hoto"/>
          <p:cNvSpPr/>
          <p:nvPr/>
        </p:nvSpPr>
        <p:spPr>
          <a:xfrm>
            <a:off x="7467480" y="3886200"/>
            <a:ext cx="1295640" cy="9050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tebulb"/>
          <p:cNvSpPr/>
          <p:nvPr/>
        </p:nvSpPr>
        <p:spPr>
          <a:xfrm>
            <a:off x="3200400" y="5562720"/>
            <a:ext cx="1004760" cy="109044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hone3"/>
          <p:cNvSpPr/>
          <p:nvPr/>
        </p:nvSpPr>
        <p:spPr>
          <a:xfrm>
            <a:off x="7848720" y="2514600"/>
            <a:ext cx="914400" cy="914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omputr3"/>
          <p:cNvSpPr/>
          <p:nvPr/>
        </p:nvSpPr>
        <p:spPr>
          <a:xfrm>
            <a:off x="5105520" y="5257800"/>
            <a:ext cx="1676160" cy="1447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UpRibbonSharp"/>
          <p:cNvSpPr/>
          <p:nvPr/>
        </p:nvSpPr>
        <p:spPr>
          <a:xfrm>
            <a:off x="3962520" y="3352680"/>
            <a:ext cx="3124080" cy="762120"/>
          </a:xfrm>
          <a:custGeom>
            <a:avLst/>
            <a:gdLst>
              <a:gd name="textAreaLeft" fmla="*/ 780840 w 3124080"/>
              <a:gd name="textAreaRight" fmla="*/ 2343240 w 3124080"/>
              <a:gd name="textAreaTop" fmla="*/ 0 h 762120"/>
              <a:gd name="textAreaBottom" fmla="*/ 6670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ubCross"/>
          <p:cNvSpPr/>
          <p:nvPr/>
        </p:nvSpPr>
        <p:spPr>
          <a:xfrm>
            <a:off x="838080" y="1523880"/>
            <a:ext cx="1219320" cy="1295640"/>
          </a:xfrm>
          <a:custGeom>
            <a:avLst/>
            <a:gdLst>
              <a:gd name="textAreaLeft" fmla="*/ 304920 w 1219320"/>
              <a:gd name="textAreaRight" fmla="*/ 914760 w 121932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</a:path>
              <a:path w="21600" h="21600">
                <a:moveTo>
                  <a:pt x="5400" y="5400"/>
                </a:moveTo>
                <a:lnTo>
                  <a:pt x="0" y="5400"/>
                </a:lnTo>
                <a:lnTo>
                  <a:pt x="0" y="16200"/>
                </a:lnTo>
              </a:path>
              <a:path w="21600" h="21600">
                <a:moveTo>
                  <a:pt x="5400" y="16200"/>
                </a:moveTo>
                <a:lnTo>
                  <a:pt x="5400" y="21600"/>
                </a:lnTo>
                <a:lnTo>
                  <a:pt x="16200" y="21600"/>
                </a:lnTo>
              </a:path>
              <a:path w="21600" h="21600">
                <a:moveTo>
                  <a:pt x="16200" y="16200"/>
                </a:move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438280" y="0"/>
            <a:ext cx="2209680" cy="1399680"/>
            <a:chOff x="2438280" y="0"/>
            <a:chExt cx="2209680" cy="1399680"/>
          </a:xfrm>
        </p:grpSpPr>
        <p:sp>
          <p:nvSpPr>
            <p:cNvPr id="63" name="Film"/>
            <p:cNvSpPr/>
            <p:nvPr/>
          </p:nvSpPr>
          <p:spPr>
            <a:xfrm>
              <a:off x="2438280" y="356400"/>
              <a:ext cx="921960" cy="104328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Sound"/>
            <p:cNvSpPr/>
            <p:nvPr/>
          </p:nvSpPr>
          <p:spPr>
            <a:xfrm>
              <a:off x="2971440" y="0"/>
              <a:ext cx="1280160" cy="6919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Photo"/>
            <p:cNvSpPr/>
            <p:nvPr/>
          </p:nvSpPr>
          <p:spPr>
            <a:xfrm>
              <a:off x="3459240" y="410760"/>
              <a:ext cx="1188720" cy="6267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Music"/>
            <p:cNvSpPr/>
            <p:nvPr/>
          </p:nvSpPr>
          <p:spPr>
            <a:xfrm>
              <a:off x="3596760" y="778320"/>
              <a:ext cx="975240" cy="6051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Film"/>
          <p:cNvSpPr/>
          <p:nvPr/>
        </p:nvSpPr>
        <p:spPr>
          <a:xfrm>
            <a:off x="5334120" y="228600"/>
            <a:ext cx="8287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Homepage"/>
          <p:cNvSpPr/>
          <p:nvPr/>
        </p:nvSpPr>
        <p:spPr>
          <a:xfrm>
            <a:off x="2438280" y="1523880"/>
            <a:ext cx="1447920" cy="1143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Documents"/>
          <p:cNvSpPr/>
          <p:nvPr/>
        </p:nvSpPr>
        <p:spPr>
          <a:xfrm>
            <a:off x="4267080" y="1752480"/>
            <a:ext cx="990720" cy="1276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etter"/>
          <p:cNvSpPr/>
          <p:nvPr/>
        </p:nvSpPr>
        <p:spPr>
          <a:xfrm>
            <a:off x="5715000" y="2362320"/>
            <a:ext cx="1676520" cy="676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ound"/>
          <p:cNvSpPr/>
          <p:nvPr/>
        </p:nvSpPr>
        <p:spPr>
          <a:xfrm>
            <a:off x="5334120" y="4267080"/>
            <a:ext cx="990360" cy="819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ubTriangle"/>
          <p:cNvSpPr/>
          <p:nvPr/>
        </p:nvSpPr>
        <p:spPr>
          <a:xfrm rot="12655800">
            <a:off x="4952880" y="2285280"/>
            <a:ext cx="2895840" cy="335124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2133720"/>
            <a:ext cx="91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0370600">
            <a:off x="5451120" y="357336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Favorite Novel this year:  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304920"/>
            <a:ext cx="3429000" cy="3124080"/>
          </a:xfrm>
          <a:prstGeom prst="star5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1600200"/>
            <a:ext cx="2133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goal that I achieved this year:  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5105520"/>
            <a:ext cx="4953240" cy="15238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52578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erson whom I will never forget and why:  __________________________________________________________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8690600">
            <a:off x="3487680" y="977760"/>
            <a:ext cx="2698560" cy="1260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769200">
            <a:off x="3795480" y="1233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suitcase belongs to:  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28600"/>
            <a:ext cx="3429000" cy="30481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685800"/>
            <a:ext cx="2133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very important things I learned this ye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5029200"/>
            <a:ext cx="2971800" cy="16765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51814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niest thing that happened this year: 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429000"/>
            <a:ext cx="4038840" cy="12193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35812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ctivity I really enjoyed:  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1447920" y="380880"/>
            <a:ext cx="6781320" cy="5485680"/>
            <a:chOff x="1447920" y="380880"/>
            <a:chExt cx="6781320" cy="5485680"/>
          </a:xfrm>
        </p:grpSpPr>
        <p:sp>
          <p:nvSpPr>
            <p:cNvPr id="88" name=""/>
            <p:cNvSpPr/>
            <p:nvPr/>
          </p:nvSpPr>
          <p:spPr>
            <a:xfrm>
              <a:off x="3080160" y="1500840"/>
              <a:ext cx="3494880" cy="3362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7920" y="4746600"/>
              <a:ext cx="2008440" cy="1119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34000" y="380880"/>
              <a:ext cx="2008800" cy="1119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8000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20800" y="4746600"/>
              <a:ext cx="2008440" cy="1119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191120" y="762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5105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y Spi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38480" y="3276720"/>
            <a:ext cx="1443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in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934320" y="228600"/>
            <a:ext cx="1904760" cy="1219320"/>
          </a:xfrm>
          <a:custGeom>
            <a:avLst/>
            <a:gdLst>
              <a:gd name="textAreaLeft" fmla="*/ 78840 w 1904760"/>
              <a:gd name="textAreaRight" fmla="*/ 1825920 w 19047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3739" h="21600">
                <a:moveTo>
                  <a:pt x="0" y="0"/>
                </a:moveTo>
                <a:lnTo>
                  <a:pt x="33739" y="0"/>
                </a:lnTo>
                <a:lnTo>
                  <a:pt x="33739" y="21600"/>
                </a:lnTo>
                <a:lnTo>
                  <a:pt x="0" y="21600"/>
                </a:lnTo>
                <a:close/>
              </a:path>
              <a:path fill="lightenLess" w="33739" h="21600">
                <a:moveTo>
                  <a:pt x="0" y="0"/>
                </a:moveTo>
                <a:lnTo>
                  <a:pt x="33739" y="0"/>
                </a:lnTo>
                <a:lnTo>
                  <a:pt x="32339" y="1400"/>
                </a:lnTo>
                <a:lnTo>
                  <a:pt x="1400" y="1400"/>
                </a:lnTo>
                <a:close/>
              </a:path>
              <a:path fill="darken" w="33739" h="21600">
                <a:moveTo>
                  <a:pt x="33739" y="0"/>
                </a:moveTo>
                <a:lnTo>
                  <a:pt x="33739" y="21600"/>
                </a:lnTo>
                <a:lnTo>
                  <a:pt x="32339" y="20200"/>
                </a:lnTo>
                <a:lnTo>
                  <a:pt x="32339" y="1400"/>
                </a:lnTo>
                <a:close/>
              </a:path>
              <a:path fill="darkenLess" w="33739" h="21600">
                <a:moveTo>
                  <a:pt x="33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39" y="20200"/>
                </a:lnTo>
                <a:close/>
              </a:path>
              <a:path fill="lighten" w="33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739" h="21600">
                <a:moveTo>
                  <a:pt x="9863" y="7301"/>
                </a:moveTo>
                <a:lnTo>
                  <a:pt x="10777" y="7301"/>
                </a:lnTo>
                <a:lnTo>
                  <a:pt x="11160" y="7667"/>
                </a:lnTo>
                <a:lnTo>
                  <a:pt x="20368" y="7667"/>
                </a:lnTo>
                <a:lnTo>
                  <a:pt x="20925" y="8224"/>
                </a:lnTo>
                <a:lnTo>
                  <a:pt x="20925" y="8772"/>
                </a:lnTo>
                <a:lnTo>
                  <a:pt x="22771" y="8772"/>
                </a:lnTo>
                <a:lnTo>
                  <a:pt x="23136" y="8224"/>
                </a:lnTo>
                <a:lnTo>
                  <a:pt x="23876" y="8224"/>
                </a:lnTo>
                <a:lnTo>
                  <a:pt x="23876" y="13376"/>
                </a:lnTo>
                <a:lnTo>
                  <a:pt x="23136" y="13376"/>
                </a:lnTo>
                <a:lnTo>
                  <a:pt x="22771" y="12828"/>
                </a:lnTo>
                <a:lnTo>
                  <a:pt x="20925" y="12828"/>
                </a:lnTo>
                <a:lnTo>
                  <a:pt x="20925" y="14107"/>
                </a:lnTo>
                <a:lnTo>
                  <a:pt x="11343" y="14107"/>
                </a:lnTo>
                <a:lnTo>
                  <a:pt x="11343" y="9877"/>
                </a:lnTo>
                <a:lnTo>
                  <a:pt x="11160" y="9877"/>
                </a:lnTo>
                <a:lnTo>
                  <a:pt x="10777" y="10243"/>
                </a:lnTo>
                <a:lnTo>
                  <a:pt x="9863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"/>
          </p:cNvPr>
          <p:cNvSpPr/>
          <p:nvPr/>
        </p:nvSpPr>
        <p:spPr>
          <a:xfrm>
            <a:off x="6781680" y="2057400"/>
            <a:ext cx="2133720" cy="1066680"/>
          </a:xfrm>
          <a:custGeom>
            <a:avLst/>
            <a:gdLst>
              <a:gd name="textAreaLeft" fmla="*/ 69120 w 2133720"/>
              <a:gd name="textAreaRight" fmla="*/ 2064600 w 21337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1905120"/>
            <a:ext cx="2133360" cy="1143000"/>
          </a:xfrm>
          <a:custGeom>
            <a:avLst/>
            <a:gdLst>
              <a:gd name="textAreaLeft" fmla="*/ 73800 w 2133360"/>
              <a:gd name="textAreaRight" fmla="*/ 2059560 w 2133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0310" h="21600">
                <a:moveTo>
                  <a:pt x="0" y="0"/>
                </a:moveTo>
                <a:lnTo>
                  <a:pt x="40310" y="0"/>
                </a:lnTo>
                <a:lnTo>
                  <a:pt x="40310" y="21600"/>
                </a:lnTo>
                <a:lnTo>
                  <a:pt x="0" y="21600"/>
                </a:lnTo>
                <a:close/>
              </a:path>
              <a:path fill="lightenLess" w="40310" h="21600">
                <a:moveTo>
                  <a:pt x="0" y="0"/>
                </a:moveTo>
                <a:lnTo>
                  <a:pt x="40310" y="0"/>
                </a:lnTo>
                <a:lnTo>
                  <a:pt x="38910" y="1400"/>
                </a:lnTo>
                <a:lnTo>
                  <a:pt x="1400" y="1400"/>
                </a:lnTo>
                <a:close/>
              </a:path>
              <a:path fill="darken" w="40310" h="21600">
                <a:moveTo>
                  <a:pt x="40310" y="0"/>
                </a:moveTo>
                <a:lnTo>
                  <a:pt x="40310" y="21600"/>
                </a:lnTo>
                <a:lnTo>
                  <a:pt x="38910" y="20200"/>
                </a:lnTo>
                <a:lnTo>
                  <a:pt x="38910" y="1400"/>
                </a:lnTo>
                <a:close/>
              </a:path>
              <a:path fill="darkenLess" w="40310" h="21600">
                <a:moveTo>
                  <a:pt x="40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10" y="20200"/>
                </a:lnTo>
                <a:close/>
              </a:path>
              <a:path fill="lighten" w="40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0310" h="21600">
                <a:moveTo>
                  <a:pt x="14628" y="3985"/>
                </a:moveTo>
                <a:lnTo>
                  <a:pt x="21626" y="3985"/>
                </a:lnTo>
                <a:lnTo>
                  <a:pt x="25682" y="7484"/>
                </a:lnTo>
                <a:lnTo>
                  <a:pt x="25682" y="17615"/>
                </a:lnTo>
                <a:lnTo>
                  <a:pt x="14628" y="17615"/>
                </a:lnTo>
                <a:close/>
              </a:path>
              <a:path fill="darken" w="40310" h="21600">
                <a:moveTo>
                  <a:pt x="21626" y="3985"/>
                </a:moveTo>
                <a:lnTo>
                  <a:pt x="25682" y="7484"/>
                </a:lnTo>
                <a:lnTo>
                  <a:pt x="21626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304920" y="228600"/>
            <a:ext cx="2057400" cy="1219320"/>
          </a:xfrm>
          <a:custGeom>
            <a:avLst/>
            <a:gdLst>
              <a:gd name="textAreaLeft" fmla="*/ 78840 w 2057400"/>
              <a:gd name="textAreaRight" fmla="*/ 1978560 w 2057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6442" h="21600">
                <a:moveTo>
                  <a:pt x="0" y="0"/>
                </a:moveTo>
                <a:lnTo>
                  <a:pt x="36442" y="0"/>
                </a:lnTo>
                <a:lnTo>
                  <a:pt x="36442" y="21600"/>
                </a:lnTo>
                <a:lnTo>
                  <a:pt x="0" y="21600"/>
                </a:lnTo>
                <a:close/>
              </a:path>
              <a:path fill="lightenLess" w="36442" h="21600">
                <a:moveTo>
                  <a:pt x="0" y="0"/>
                </a:moveTo>
                <a:lnTo>
                  <a:pt x="36442" y="0"/>
                </a:lnTo>
                <a:lnTo>
                  <a:pt x="35042" y="1400"/>
                </a:lnTo>
                <a:lnTo>
                  <a:pt x="1400" y="1400"/>
                </a:lnTo>
                <a:close/>
              </a:path>
              <a:path fill="darken" w="36442" h="21600">
                <a:moveTo>
                  <a:pt x="36442" y="0"/>
                </a:moveTo>
                <a:lnTo>
                  <a:pt x="36442" y="21600"/>
                </a:lnTo>
                <a:lnTo>
                  <a:pt x="35042" y="20200"/>
                </a:lnTo>
                <a:lnTo>
                  <a:pt x="35042" y="1400"/>
                </a:lnTo>
                <a:close/>
              </a:path>
              <a:path fill="darkenLess" w="36442" h="21600">
                <a:moveTo>
                  <a:pt x="364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42" y="20200"/>
                </a:lnTo>
                <a:close/>
              </a:path>
              <a:path fill="lighten" w="364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442" h="21600">
                <a:moveTo>
                  <a:pt x="11215" y="7493"/>
                </a:moveTo>
                <a:lnTo>
                  <a:pt x="14722" y="7493"/>
                </a:lnTo>
                <a:lnTo>
                  <a:pt x="14722" y="12828"/>
                </a:lnTo>
                <a:cubicBezTo>
                  <a:pt x="14722" y="13751"/>
                  <a:pt x="15523" y="14482"/>
                  <a:pt x="16559" y="14482"/>
                </a:cubicBezTo>
                <a:lnTo>
                  <a:pt x="18221" y="14482"/>
                </a:lnTo>
                <a:cubicBezTo>
                  <a:pt x="19257" y="14482"/>
                  <a:pt x="20057" y="13751"/>
                  <a:pt x="20057" y="12828"/>
                </a:cubicBezTo>
                <a:lnTo>
                  <a:pt x="20057" y="7493"/>
                </a:lnTo>
                <a:lnTo>
                  <a:pt x="18221" y="7493"/>
                </a:lnTo>
                <a:lnTo>
                  <a:pt x="21729" y="3985"/>
                </a:lnTo>
                <a:lnTo>
                  <a:pt x="25402" y="7493"/>
                </a:lnTo>
                <a:lnTo>
                  <a:pt x="23565" y="7493"/>
                </a:lnTo>
                <a:lnTo>
                  <a:pt x="23565" y="12828"/>
                </a:lnTo>
                <a:cubicBezTo>
                  <a:pt x="23565" y="15596"/>
                  <a:pt x="20989" y="18155"/>
                  <a:pt x="18221" y="18155"/>
                </a:cubicBezTo>
                <a:lnTo>
                  <a:pt x="16559" y="18155"/>
                </a:lnTo>
                <a:cubicBezTo>
                  <a:pt x="13791" y="18155"/>
                  <a:pt x="11215" y="15596"/>
                  <a:pt x="1121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3809880" y="304920"/>
            <a:ext cx="1905120" cy="1218960"/>
          </a:xfrm>
          <a:custGeom>
            <a:avLst/>
            <a:gdLst>
              <a:gd name="textAreaLeft" fmla="*/ 78840 w 1905120"/>
              <a:gd name="textAreaRight" fmla="*/ 1826280 w 19051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3755" h="21600">
                <a:moveTo>
                  <a:pt x="0" y="0"/>
                </a:moveTo>
                <a:lnTo>
                  <a:pt x="33755" y="0"/>
                </a:lnTo>
                <a:lnTo>
                  <a:pt x="33755" y="21600"/>
                </a:lnTo>
                <a:lnTo>
                  <a:pt x="0" y="21600"/>
                </a:lnTo>
                <a:close/>
              </a:path>
              <a:path fill="lightenLess" w="33755" h="21600">
                <a:moveTo>
                  <a:pt x="0" y="0"/>
                </a:moveTo>
                <a:lnTo>
                  <a:pt x="33755" y="0"/>
                </a:lnTo>
                <a:lnTo>
                  <a:pt x="32355" y="1400"/>
                </a:lnTo>
                <a:lnTo>
                  <a:pt x="1400" y="1400"/>
                </a:lnTo>
                <a:close/>
              </a:path>
              <a:path fill="darken" w="33755" h="21600">
                <a:moveTo>
                  <a:pt x="33755" y="0"/>
                </a:moveTo>
                <a:lnTo>
                  <a:pt x="33755" y="21600"/>
                </a:lnTo>
                <a:lnTo>
                  <a:pt x="32355" y="20200"/>
                </a:lnTo>
                <a:lnTo>
                  <a:pt x="32355" y="1400"/>
                </a:lnTo>
                <a:close/>
              </a:path>
              <a:path fill="darkenLess" w="33755" h="21600">
                <a:moveTo>
                  <a:pt x="33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55" y="20200"/>
                </a:lnTo>
                <a:close/>
              </a:path>
              <a:path fill="lighten" w="33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755" h="21600">
                <a:moveTo>
                  <a:pt x="16878" y="3837"/>
                </a:moveTo>
                <a:lnTo>
                  <a:pt x="19454" y="6448"/>
                </a:lnTo>
                <a:lnTo>
                  <a:pt x="19454" y="4707"/>
                </a:lnTo>
                <a:lnTo>
                  <a:pt x="21229" y="4707"/>
                </a:lnTo>
                <a:lnTo>
                  <a:pt x="21229" y="8224"/>
                </a:lnTo>
                <a:lnTo>
                  <a:pt x="23841" y="10800"/>
                </a:lnTo>
                <a:lnTo>
                  <a:pt x="22187" y="10800"/>
                </a:lnTo>
                <a:lnTo>
                  <a:pt x="22187" y="17989"/>
                </a:lnTo>
                <a:lnTo>
                  <a:pt x="11568" y="17989"/>
                </a:lnTo>
                <a:lnTo>
                  <a:pt x="11568" y="10800"/>
                </a:lnTo>
                <a:lnTo>
                  <a:pt x="9915" y="10800"/>
                </a:lnTo>
                <a:close/>
              </a:path>
              <a:path fill="darkenLess" w="33755" h="21600">
                <a:moveTo>
                  <a:pt x="19454" y="6448"/>
                </a:moveTo>
                <a:lnTo>
                  <a:pt x="19454" y="4707"/>
                </a:lnTo>
                <a:lnTo>
                  <a:pt x="21229" y="4707"/>
                </a:lnTo>
                <a:lnTo>
                  <a:pt x="21229" y="8224"/>
                </a:lnTo>
                <a:close/>
              </a:path>
              <a:path fill="darkenLess" w="33755" h="21600">
                <a:moveTo>
                  <a:pt x="15955" y="14299"/>
                </a:moveTo>
                <a:lnTo>
                  <a:pt x="17800" y="14299"/>
                </a:lnTo>
                <a:lnTo>
                  <a:pt x="17800" y="17989"/>
                </a:lnTo>
                <a:lnTo>
                  <a:pt x="22187" y="17989"/>
                </a:lnTo>
                <a:lnTo>
                  <a:pt x="22187" y="10800"/>
                </a:lnTo>
                <a:lnTo>
                  <a:pt x="11568" y="10800"/>
                </a:lnTo>
                <a:lnTo>
                  <a:pt x="11568" y="17989"/>
                </a:lnTo>
                <a:lnTo>
                  <a:pt x="1595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752480"/>
            <a:ext cx="1905120" cy="1143000"/>
          </a:xfrm>
          <a:custGeom>
            <a:avLst/>
            <a:gdLst>
              <a:gd name="textAreaLeft" fmla="*/ 73800 w 1905120"/>
              <a:gd name="textAreaRight" fmla="*/ 1831320 w 19051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5998" h="21600">
                <a:moveTo>
                  <a:pt x="0" y="0"/>
                </a:moveTo>
                <a:lnTo>
                  <a:pt x="35998" y="0"/>
                </a:lnTo>
                <a:lnTo>
                  <a:pt x="35998" y="21600"/>
                </a:lnTo>
                <a:lnTo>
                  <a:pt x="0" y="21600"/>
                </a:lnTo>
                <a:close/>
              </a:path>
              <a:path fill="lightenLess" w="35998" h="21600">
                <a:moveTo>
                  <a:pt x="0" y="0"/>
                </a:moveTo>
                <a:lnTo>
                  <a:pt x="35998" y="0"/>
                </a:lnTo>
                <a:lnTo>
                  <a:pt x="34598" y="1400"/>
                </a:lnTo>
                <a:lnTo>
                  <a:pt x="1400" y="1400"/>
                </a:lnTo>
                <a:close/>
              </a:path>
              <a:path fill="darken" w="35998" h="21600">
                <a:moveTo>
                  <a:pt x="35998" y="0"/>
                </a:moveTo>
                <a:lnTo>
                  <a:pt x="35998" y="21600"/>
                </a:lnTo>
                <a:lnTo>
                  <a:pt x="34598" y="20200"/>
                </a:lnTo>
                <a:lnTo>
                  <a:pt x="34598" y="1400"/>
                </a:lnTo>
                <a:close/>
              </a:path>
              <a:path fill="darkenLess" w="35998" h="21600">
                <a:moveTo>
                  <a:pt x="35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8" y="20200"/>
                </a:lnTo>
                <a:close/>
              </a:path>
              <a:path fill="lighten" w="35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3733920" y="5181480"/>
            <a:ext cx="1981080" cy="1067040"/>
          </a:xfrm>
          <a:custGeom>
            <a:avLst/>
            <a:gdLst>
              <a:gd name="textAreaLeft" fmla="*/ 69120 w 1981080"/>
              <a:gd name="textAreaRight" fmla="*/ 1911960 w 19810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40097" h="21600">
                <a:moveTo>
                  <a:pt x="0" y="0"/>
                </a:moveTo>
                <a:lnTo>
                  <a:pt x="40097" y="0"/>
                </a:lnTo>
                <a:lnTo>
                  <a:pt x="40097" y="21600"/>
                </a:lnTo>
                <a:lnTo>
                  <a:pt x="0" y="21600"/>
                </a:lnTo>
                <a:close/>
              </a:path>
              <a:path fill="lightenLess" w="40097" h="21600">
                <a:moveTo>
                  <a:pt x="0" y="0"/>
                </a:moveTo>
                <a:lnTo>
                  <a:pt x="40097" y="0"/>
                </a:lnTo>
                <a:lnTo>
                  <a:pt x="38697" y="1400"/>
                </a:lnTo>
                <a:lnTo>
                  <a:pt x="1400" y="1400"/>
                </a:lnTo>
                <a:close/>
              </a:path>
              <a:path fill="darken" w="40097" h="21600">
                <a:moveTo>
                  <a:pt x="40097" y="0"/>
                </a:moveTo>
                <a:lnTo>
                  <a:pt x="40097" y="21600"/>
                </a:lnTo>
                <a:lnTo>
                  <a:pt x="38697" y="20200"/>
                </a:lnTo>
                <a:lnTo>
                  <a:pt x="38697" y="1400"/>
                </a:lnTo>
                <a:close/>
              </a:path>
              <a:path fill="darkenLess" w="40097" h="21600">
                <a:moveTo>
                  <a:pt x="40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7" y="20200"/>
                </a:lnTo>
                <a:close/>
              </a:path>
              <a:path fill="lighten" w="40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7" h="21600">
                <a:moveTo>
                  <a:pt x="13042" y="10800"/>
                </a:moveTo>
                <a:lnTo>
                  <a:pt x="27055" y="3794"/>
                </a:lnTo>
                <a:lnTo>
                  <a:pt x="270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6934320" y="3657600"/>
            <a:ext cx="1904760" cy="1219320"/>
          </a:xfrm>
          <a:custGeom>
            <a:avLst/>
            <a:gdLst>
              <a:gd name="textAreaLeft" fmla="*/ 78840 w 1904760"/>
              <a:gd name="textAreaRight" fmla="*/ 1825920 w 19047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3739" h="21600">
                <a:moveTo>
                  <a:pt x="0" y="0"/>
                </a:moveTo>
                <a:lnTo>
                  <a:pt x="33739" y="0"/>
                </a:lnTo>
                <a:lnTo>
                  <a:pt x="33739" y="21600"/>
                </a:lnTo>
                <a:lnTo>
                  <a:pt x="0" y="21600"/>
                </a:lnTo>
                <a:close/>
              </a:path>
              <a:path fill="lightenLess" w="33739" h="21600">
                <a:moveTo>
                  <a:pt x="0" y="0"/>
                </a:moveTo>
                <a:lnTo>
                  <a:pt x="33739" y="0"/>
                </a:lnTo>
                <a:lnTo>
                  <a:pt x="32339" y="1400"/>
                </a:lnTo>
                <a:lnTo>
                  <a:pt x="1400" y="1400"/>
                </a:lnTo>
                <a:close/>
              </a:path>
              <a:path fill="darken" w="33739" h="21600">
                <a:moveTo>
                  <a:pt x="33739" y="0"/>
                </a:moveTo>
                <a:lnTo>
                  <a:pt x="33739" y="21600"/>
                </a:lnTo>
                <a:lnTo>
                  <a:pt x="32339" y="20200"/>
                </a:lnTo>
                <a:lnTo>
                  <a:pt x="32339" y="1400"/>
                </a:lnTo>
                <a:close/>
              </a:path>
              <a:path fill="darkenLess" w="33739" h="21600">
                <a:moveTo>
                  <a:pt x="33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39" y="20200"/>
                </a:lnTo>
                <a:close/>
              </a:path>
              <a:path fill="lighten" w="33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739" h="21600">
                <a:moveTo>
                  <a:pt x="9863" y="3794"/>
                </a:moveTo>
                <a:lnTo>
                  <a:pt x="23876" y="10800"/>
                </a:lnTo>
                <a:lnTo>
                  <a:pt x="98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lastslide"/>
          </p:cNvPr>
          <p:cNvSpPr/>
          <p:nvPr/>
        </p:nvSpPr>
        <p:spPr>
          <a:xfrm>
            <a:off x="6858000" y="5257800"/>
            <a:ext cx="1905120" cy="1066680"/>
          </a:xfrm>
          <a:custGeom>
            <a:avLst/>
            <a:gdLst>
              <a:gd name="textAreaLeft" fmla="*/ 69120 w 1905120"/>
              <a:gd name="textAreaRight" fmla="*/ 1836000 w 19051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8572" h="21600">
                <a:moveTo>
                  <a:pt x="0" y="0"/>
                </a:moveTo>
                <a:lnTo>
                  <a:pt x="38572" y="0"/>
                </a:lnTo>
                <a:lnTo>
                  <a:pt x="38572" y="21600"/>
                </a:lnTo>
                <a:lnTo>
                  <a:pt x="0" y="21600"/>
                </a:lnTo>
                <a:close/>
              </a:path>
              <a:path fill="lightenLess" w="38572" h="21600">
                <a:moveTo>
                  <a:pt x="0" y="0"/>
                </a:moveTo>
                <a:lnTo>
                  <a:pt x="38572" y="0"/>
                </a:lnTo>
                <a:lnTo>
                  <a:pt x="37172" y="1400"/>
                </a:lnTo>
                <a:lnTo>
                  <a:pt x="1400" y="1400"/>
                </a:lnTo>
                <a:close/>
              </a:path>
              <a:path fill="darken" w="38572" h="21600">
                <a:moveTo>
                  <a:pt x="38572" y="0"/>
                </a:moveTo>
                <a:lnTo>
                  <a:pt x="38572" y="21600"/>
                </a:lnTo>
                <a:lnTo>
                  <a:pt x="37172" y="20200"/>
                </a:lnTo>
                <a:lnTo>
                  <a:pt x="37172" y="1400"/>
                </a:lnTo>
                <a:close/>
              </a:path>
              <a:path fill="darkenLess" w="38572" h="21600">
                <a:moveTo>
                  <a:pt x="38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72" y="20200"/>
                </a:lnTo>
                <a:close/>
              </a:path>
              <a:path fill="lighten" w="38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572" h="21600">
                <a:moveTo>
                  <a:pt x="22785" y="10800"/>
                </a:moveTo>
                <a:lnTo>
                  <a:pt x="12280" y="17806"/>
                </a:lnTo>
                <a:lnTo>
                  <a:pt x="12280" y="3794"/>
                </a:lnTo>
                <a:close/>
              </a:path>
              <a:path fill="darken" w="38572" h="21600">
                <a:moveTo>
                  <a:pt x="24630" y="3794"/>
                </a:moveTo>
                <a:lnTo>
                  <a:pt x="24630" y="17806"/>
                </a:lnTo>
                <a:lnTo>
                  <a:pt x="26293" y="17806"/>
                </a:lnTo>
                <a:lnTo>
                  <a:pt x="2629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533520" y="518148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3779" y="10800"/>
                </a:moveTo>
                <a:lnTo>
                  <a:pt x="24284" y="3794"/>
                </a:lnTo>
                <a:lnTo>
                  <a:pt x="24284" y="17806"/>
                </a:lnTo>
                <a:close/>
              </a:path>
              <a:path fill="darken" w="34556" h="21600">
                <a:moveTo>
                  <a:pt x="10271" y="3794"/>
                </a:moveTo>
                <a:lnTo>
                  <a:pt x="11934" y="3794"/>
                </a:lnTo>
                <a:lnTo>
                  <a:pt x="11934" y="17806"/>
                </a:lnTo>
                <a:lnTo>
                  <a:pt x="1027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429000"/>
            <a:ext cx="1752480" cy="1295280"/>
          </a:xfrm>
          <a:custGeom>
            <a:avLst/>
            <a:gdLst>
              <a:gd name="textAreaLeft" fmla="*/ 83880 w 1752480"/>
              <a:gd name="textAreaRight" fmla="*/ 1668600 w 17524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9222" h="21600">
                <a:moveTo>
                  <a:pt x="0" y="0"/>
                </a:moveTo>
                <a:lnTo>
                  <a:pt x="29222" y="0"/>
                </a:lnTo>
                <a:lnTo>
                  <a:pt x="29222" y="21600"/>
                </a:lnTo>
                <a:lnTo>
                  <a:pt x="0" y="21600"/>
                </a:lnTo>
                <a:close/>
              </a:path>
              <a:path fill="lightenLess" w="29222" h="21600">
                <a:moveTo>
                  <a:pt x="0" y="0"/>
                </a:moveTo>
                <a:lnTo>
                  <a:pt x="29222" y="0"/>
                </a:lnTo>
                <a:lnTo>
                  <a:pt x="27822" y="1400"/>
                </a:lnTo>
                <a:lnTo>
                  <a:pt x="1400" y="1400"/>
                </a:lnTo>
                <a:close/>
              </a:path>
              <a:path fill="darken" w="29222" h="21600">
                <a:moveTo>
                  <a:pt x="29222" y="0"/>
                </a:moveTo>
                <a:lnTo>
                  <a:pt x="29222" y="21600"/>
                </a:lnTo>
                <a:lnTo>
                  <a:pt x="27822" y="20200"/>
                </a:lnTo>
                <a:lnTo>
                  <a:pt x="27822" y="1400"/>
                </a:lnTo>
                <a:close/>
              </a:path>
              <a:path fill="darkenLess" w="29222" h="21600">
                <a:moveTo>
                  <a:pt x="29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2" y="20200"/>
                </a:lnTo>
                <a:close/>
              </a:path>
              <a:path fill="lighten" w="29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2" h="21600">
                <a:moveTo>
                  <a:pt x="146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9222" h="21600">
                <a:moveTo>
                  <a:pt x="15716" y="14281"/>
                </a:moveTo>
                <a:lnTo>
                  <a:pt x="15716" y="12323"/>
                </a:lnTo>
                <a:cubicBezTo>
                  <a:pt x="15716" y="11496"/>
                  <a:pt x="16047" y="10800"/>
                  <a:pt x="16648" y="10800"/>
                </a:cubicBezTo>
                <a:cubicBezTo>
                  <a:pt x="17779" y="10800"/>
                  <a:pt x="18676" y="9434"/>
                  <a:pt x="18676" y="7849"/>
                </a:cubicBezTo>
                <a:cubicBezTo>
                  <a:pt x="18676" y="5534"/>
                  <a:pt x="16822" y="3794"/>
                  <a:pt x="14611" y="3794"/>
                </a:cubicBezTo>
                <a:cubicBezTo>
                  <a:pt x="12400" y="3794"/>
                  <a:pt x="10729" y="5534"/>
                  <a:pt x="10729" y="7849"/>
                </a:cubicBezTo>
                <a:lnTo>
                  <a:pt x="12583" y="7849"/>
                </a:lnTo>
                <a:cubicBezTo>
                  <a:pt x="12583" y="6709"/>
                  <a:pt x="13506" y="5821"/>
                  <a:pt x="14611" y="5821"/>
                </a:cubicBezTo>
                <a:cubicBezTo>
                  <a:pt x="15716" y="5821"/>
                  <a:pt x="16648" y="6709"/>
                  <a:pt x="16648" y="7849"/>
                </a:cubicBezTo>
                <a:cubicBezTo>
                  <a:pt x="16648" y="8589"/>
                  <a:pt x="16178" y="9320"/>
                  <a:pt x="15716" y="9320"/>
                </a:cubicBezTo>
                <a:cubicBezTo>
                  <a:pt x="14611" y="9320"/>
                  <a:pt x="13506" y="10800"/>
                  <a:pt x="13506" y="12323"/>
                </a:cubicBezTo>
                <a:lnTo>
                  <a:pt x="13506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3276720"/>
            <a:ext cx="1981440" cy="1523880"/>
          </a:xfrm>
          <a:custGeom>
            <a:avLst/>
            <a:gdLst>
              <a:gd name="textAreaLeft" fmla="*/ 98640 w 1981440"/>
              <a:gd name="textAreaRight" fmla="*/ 1882800 w 198144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8084" h="21600">
                <a:moveTo>
                  <a:pt x="0" y="0"/>
                </a:moveTo>
                <a:lnTo>
                  <a:pt x="28084" y="0"/>
                </a:lnTo>
                <a:lnTo>
                  <a:pt x="28084" y="21600"/>
                </a:lnTo>
                <a:lnTo>
                  <a:pt x="0" y="21600"/>
                </a:lnTo>
                <a:close/>
              </a:path>
              <a:path fill="lightenLess" w="28084" h="21600">
                <a:moveTo>
                  <a:pt x="0" y="0"/>
                </a:moveTo>
                <a:lnTo>
                  <a:pt x="28084" y="0"/>
                </a:lnTo>
                <a:lnTo>
                  <a:pt x="26684" y="1400"/>
                </a:lnTo>
                <a:lnTo>
                  <a:pt x="1400" y="1400"/>
                </a:lnTo>
                <a:close/>
              </a:path>
              <a:path fill="darken" w="28084" h="21600">
                <a:moveTo>
                  <a:pt x="28084" y="0"/>
                </a:moveTo>
                <a:lnTo>
                  <a:pt x="28084" y="21600"/>
                </a:lnTo>
                <a:lnTo>
                  <a:pt x="26684" y="20200"/>
                </a:lnTo>
                <a:lnTo>
                  <a:pt x="26684" y="1400"/>
                </a:lnTo>
                <a:close/>
              </a:path>
              <a:path fill="darkenLess" w="28084" h="21600">
                <a:moveTo>
                  <a:pt x="28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4" y="20200"/>
                </a:lnTo>
                <a:close/>
              </a:path>
              <a:path fill="lighten" w="28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4" h="21600">
                <a:moveTo>
                  <a:pt x="1404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8084" h="21600">
                <a:moveTo>
                  <a:pt x="1404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8084" h="21600">
                <a:moveTo>
                  <a:pt x="11466" y="8224"/>
                </a:moveTo>
                <a:lnTo>
                  <a:pt x="15330" y="8224"/>
                </a:lnTo>
                <a:lnTo>
                  <a:pt x="15330" y="15221"/>
                </a:lnTo>
                <a:lnTo>
                  <a:pt x="16618" y="15221"/>
                </a:lnTo>
                <a:lnTo>
                  <a:pt x="16618" y="16144"/>
                </a:lnTo>
                <a:lnTo>
                  <a:pt x="11466" y="16144"/>
                </a:lnTo>
                <a:lnTo>
                  <a:pt x="11466" y="15221"/>
                </a:lnTo>
                <a:lnTo>
                  <a:pt x="12754" y="15221"/>
                </a:lnTo>
                <a:lnTo>
                  <a:pt x="12754" y="9129"/>
                </a:lnTo>
                <a:lnTo>
                  <a:pt x="11466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5:58:27Z</dcterms:created>
  <dc:creator> </dc:creator>
  <dc:description/>
  <dc:language>en-US</dc:language>
  <cp:lastModifiedBy> </cp:lastModifiedBy>
  <dcterms:modified xsi:type="dcterms:W3CDTF">2012-05-06T19:03:30Z</dcterms:modified>
  <cp:revision>9</cp:revision>
  <dc:subject/>
  <dc:title>Slide 1</dc:title>
</cp:coreProperties>
</file>